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EAB8F-D708-4FB6-BD71-D9B436376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3B565-D273-462E-B891-04D286ADF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93059-9547-485D-99F1-E5FBEDD11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F25DB-9CB6-4202-8D55-0AC7956AC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31F24-B391-4D44-B6BD-DD7FDACB4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2A7BB-D5BD-416C-B484-3BCBB0E63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6F093-E28A-46BB-95B8-4B03C326E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B451F-CCD9-4ED0-8F94-03A9FB98B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75CA0-2D71-48F3-882B-9086A179E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A1DF9-1801-483B-974F-C4864E5D7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A5616-5B13-4E25-8663-6CEEE52DA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99EAD-D0F5-4C4D-BD8E-C040979937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34A91-2DAB-4095-9880-4E0E0408E6D2}"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6"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7" name="Picture 9" descr="comp_i"/>
          <p:cNvPicPr/>
          <p:nvPr/>
        </p:nvPicPr>
        <p:blipFill>
          <a:blip r:embed="rId1"/>
          <a:stretch/>
        </p:blipFill>
        <p:spPr>
          <a:xfrm>
            <a:off x="5148360" y="148428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
        <p:nvSpPr>
          <p:cNvPr id="49"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6-15T12:33:38Z</dcterms:modified>
  <cp:revision>43</cp:revision>
  <dc:subject/>
  <dc:title>SALARIUL</dc:title>
</cp:coreProperties>
</file>